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8EA-9363-473B-A987-CE85C06F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C13-DCB2-4AE1-B309-8E1419E6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4C0-6CA9-4F06-8224-4BC43904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BD9-D912-40E5-BCF7-35EC7641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EB7-24D2-402B-999C-1C8B4342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99F-9813-4B5B-973E-8F444369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18A-D3D8-4FEB-8079-C954D85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740-61D9-4941-A3F0-FA7BE306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E67-F46C-47C5-B0C7-2FDDA70D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DDEB-B246-4BD4-A182-C4F753EC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BB5-F69B-456C-98E5-06D3CE1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4FE-A745-4D40-9C18-F1A95832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6C35-6AA6-4535-97B3-75CC5DA5D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6800" y="2814480"/>
            <a:ext cx="83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Mémoires proposés par le L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0840" cy="1479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152280"/>
            <a:ext cx="547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df5c3"/>
                </a:solidFill>
                <a:latin typeface="Arial"/>
              </a:rPr>
              <a:t>Université Catholique de Louv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df5c3"/>
                </a:solidFill>
                <a:latin typeface="Arial"/>
              </a:rPr>
              <a:t>Institut de Recherches en Sciences Psycholog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38240" y="903240"/>
            <a:ext cx="7205760" cy="930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77676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3680" y="4078440"/>
            <a:ext cx="863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Présentation des thématiques, modalités pratiques et questions-répon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7960" y="6384960"/>
            <a:ext cx="863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cc"/>
                </a:solidFill>
                <a:latin typeface="Arial"/>
              </a:rPr>
              <a:t>Année académique 2012-201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0960" y="1904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Pierre Philipp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7012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1360" y="981000"/>
            <a:ext cx="8972640" cy="57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200" spc="-1" strike="noStrike">
                <a:solidFill>
                  <a:srgbClr val="ffff99"/>
                </a:solidFill>
                <a:latin typeface="Arial"/>
              </a:rPr>
              <a:t>Sans co-promotion (contacter directement P. Philippot)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Réentraînement attentionnel dans l’anxiété 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Liens entre ruminations, troubles de l’humeur et fonctions exécu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Biais d’évaluation des EFE dans l’anxiété 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Entraînement compétences non-verbales des thérape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Evaluation des EFE asymétriques chez sujets sains et anxieux soci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99"/>
                </a:solidFill>
                <a:latin typeface="Arial"/>
              </a:rPr>
              <a:t>Vincent Dethier (Co-promoteur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Focus attentionnel dans la thérapie par ex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99"/>
                </a:solidFill>
                <a:latin typeface="Arial"/>
              </a:rPr>
              <a:t>Virginie Peschard (Co-promotri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Biais attentionnels et évaluatifs envers la prosodie dans l’anxié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Intégration crossmodale émotionnelle dans l’anxiété 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9"/>
                </a:solidFill>
                <a:latin typeface="Arial"/>
              </a:rPr>
              <a:t>- Réentrainement attentionnel dans l’anxiété 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20200" y="1203480"/>
            <a:ext cx="523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27960" y="18108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Nombre de mém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6800" y="2814480"/>
            <a:ext cx="83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Informations prat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77676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7960" y="3268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Spécificité des mémoires en L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" y="1459080"/>
            <a:ext cx="880920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Diversité-complémentarité des approches utilisé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Possibilité de découvrir plusieurs populations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techniques et questions de recherch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Co-promotion possible pour lier des thématiqu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Possibilité de participer à un séminaire du group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(2 X par moi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Groupe de mémorants avec interactions, entraide e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gestion groupée (séances de groupe, séminaire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500" spc="-1" strike="noStrike">
                <a:solidFill>
                  <a:srgbClr val="bbe0e3"/>
                </a:solidFill>
                <a:latin typeface="Arial"/>
              </a:rPr>
              <a:t>N.B. Nous cherchons encore un stagiaire pour le 2</a:t>
            </a:r>
            <a:r>
              <a:rPr b="0" lang="fr-BE" sz="2500" spc="-1" strike="noStrike" baseline="30000">
                <a:solidFill>
                  <a:srgbClr val="bbe0e3"/>
                </a:solidFill>
                <a:latin typeface="Arial"/>
              </a:rPr>
              <a:t>ème</a:t>
            </a:r>
            <a:r>
              <a:rPr b="0" lang="fr-BE" sz="2500" spc="-1" strike="noStrike">
                <a:solidFill>
                  <a:srgbClr val="bbe0e3"/>
                </a:solidFill>
                <a:latin typeface="Arial"/>
              </a:rPr>
              <a:t> quadri.</a:t>
            </a:r>
            <a:r>
              <a:rPr b="0" lang="fr-BE" sz="2500" spc="-1" strike="noStrike">
                <a:solidFill>
                  <a:srgbClr val="ffff9b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4960" y="1634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Modus operan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7012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4800" y="981000"/>
            <a:ext cx="8809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                </a:t>
            </a:r>
            <a:r>
              <a:rPr b="1" lang="fr-BE" sz="3000" spc="-1" strike="noStrike">
                <a:solidFill>
                  <a:srgbClr val="ffff9b"/>
                </a:solidFill>
                <a:latin typeface="Arial"/>
              </a:rPr>
              <a:t>Quoi?                                     Quan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- Spécifier sa thématique d’intér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   </a:t>
            </a: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(via lectures – RDV individu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- Choisir son (co-)promoteur et son th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- Rendre l’avant-projet de mém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- Rendre le projet de mém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- Affiner le sujet et définir la méthod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- Acquérir les données et rédiger le mém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+ Séances de groupe aux moments-c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(rédaction projet, statistiques,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44080" y="1650960"/>
            <a:ext cx="2599200" cy="42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bbe0e3"/>
                </a:solidFill>
                <a:latin typeface="Arial"/>
              </a:rPr>
              <a:t>Novemb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bbe0e3"/>
                </a:solidFill>
                <a:latin typeface="Arial"/>
              </a:rPr>
              <a:t>Pour 30/1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bbe0e3"/>
                </a:solidFill>
                <a:latin typeface="Arial"/>
              </a:rPr>
              <a:t>Pour 18/01/201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bbe0e3"/>
                </a:solidFill>
                <a:latin typeface="Arial"/>
              </a:rPr>
              <a:t>Pour 06/201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bbe0e3"/>
                </a:solidFill>
                <a:latin typeface="Arial"/>
              </a:rPr>
              <a:t>Pour 09/2013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500" spc="-1" strike="noStrike">
                <a:solidFill>
                  <a:srgbClr val="bbe0e3"/>
                </a:solidFill>
                <a:latin typeface="Arial"/>
              </a:rPr>
              <a:t>Pour 05-09/201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23800" y="2405160"/>
            <a:ext cx="83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Questions-répon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7168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137120"/>
            <a:ext cx="9144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owerpoint disponible via le lien suivant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cc"/>
                </a:solidFill>
                <a:latin typeface="Arial"/>
              </a:rPr>
              <a:t>http://www.uclep.be/wp-content/uploads/memoire.p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96800" y="2814480"/>
            <a:ext cx="83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Présentation du L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77676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7960" y="3268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Présentation du L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7316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1103400"/>
            <a:ext cx="89726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Laboratoire de Psychopathologie Expérimenta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9b"/>
                </a:solidFill>
                <a:latin typeface="Arial"/>
              </a:rPr>
              <a:t>Objectifs généraux: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Explorer les processus psychologiques altérés dan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psychopathologie (addictions - troubles émotionnel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Développer des interventions centrées sur ces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(biais attentionnels/cognitifs, self-control, imagerie menta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9b"/>
                </a:solidFill>
                <a:latin typeface="Arial"/>
              </a:rPr>
              <a:t>Background théorique et méthodologi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Approches multiples: neurosciences affectives-social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psychologie cognitive et comportementale, neuropsycholog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9b"/>
                </a:solidFill>
                <a:latin typeface="Arial"/>
              </a:rPr>
              <a:t>+ Approche transdiagnostique, développementale et biolog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9080" y="6145200"/>
            <a:ext cx="377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9999"/>
                </a:solidFill>
                <a:latin typeface="Arial"/>
              </a:rPr>
              <a:t>http://www.uclep.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7960" y="1634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Membres du L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7012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33560"/>
            <a:ext cx="8809200" cy="57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4 senior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3 post-doctorant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6 doctorant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4 chercheurs associé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9999"/>
                </a:solidFill>
                <a:latin typeface="Arial"/>
              </a:rPr>
              <a:t>Nous contacter: Etage 2, Ailes D-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9999"/>
                </a:solidFill>
                <a:latin typeface="Arial"/>
              </a:rPr>
              <a:t>                            </a:t>
            </a:r>
            <a:r>
              <a:rPr b="1" lang="fr-BE" sz="3000" spc="-1" strike="noStrike">
                <a:solidFill>
                  <a:srgbClr val="009999"/>
                </a:solidFill>
                <a:latin typeface="Arial"/>
              </a:rPr>
              <a:t>prenom.nom@uclouvain.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57600" y="95580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57720" y="1189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826240" y="96984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342200" y="94284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792600" y="2146320"/>
            <a:ext cx="911160" cy="1139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375160" y="2090880"/>
            <a:ext cx="908280" cy="1207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905520" y="2017800"/>
            <a:ext cx="96228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428920" y="319248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3657600" y="320976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4859280" y="3235320"/>
            <a:ext cx="984240" cy="128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5965920" y="322272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8026560" y="318132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19360" y="226692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Joël Bill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86560" y="2238480"/>
            <a:ext cx="124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Pierre Mau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5200" y="1947960"/>
            <a:ext cx="140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Philippe de Ti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40240" y="32958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Alexandre He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51760" y="2189160"/>
            <a:ext cx="136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Pierre Philip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6360" y="3292560"/>
            <a:ext cx="124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Magali Laha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47040" y="3276720"/>
            <a:ext cx="147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Mandy Rossig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4080" y="4506840"/>
            <a:ext cx="14479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e1e1e1"/>
                </a:solidFill>
                <a:latin typeface="Arial"/>
              </a:rPr>
              <a:t>Gaëtan De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97640" y="4508640"/>
            <a:ext cx="1747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e1e1e1"/>
                </a:solidFill>
                <a:latin typeface="Arial"/>
              </a:rPr>
              <a:t>Coralie Eeeckhou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97320" y="4478400"/>
            <a:ext cx="14475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e1e1e1"/>
                </a:solidFill>
                <a:latin typeface="Arial"/>
              </a:rPr>
              <a:t>Vincent Deth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67520" y="4487760"/>
            <a:ext cx="1176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e1e1e1"/>
                </a:solidFill>
                <a:latin typeface="Arial"/>
              </a:rPr>
              <a:t>Virginie Peschar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200" y="3716280"/>
            <a:ext cx="1774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e1e1e1"/>
                </a:solidFill>
                <a:latin typeface="Arial"/>
              </a:rPr>
              <a:t>Félix Banderembah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0040" y="4491000"/>
            <a:ext cx="1747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700" spc="-1" strike="noStrike">
                <a:solidFill>
                  <a:srgbClr val="e1e1e1"/>
                </a:solidFill>
                <a:latin typeface="Arial"/>
              </a:rPr>
              <a:t>Sophie Leclercq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7760" y="5802480"/>
            <a:ext cx="17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Eric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10040" y="5788080"/>
            <a:ext cx="17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Jory Deleu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91280" y="5788080"/>
            <a:ext cx="17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Lieve Filbr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45240" y="5786280"/>
            <a:ext cx="159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e1e1e1"/>
                </a:solidFill>
                <a:latin typeface="Arial"/>
              </a:rPr>
              <a:t>Audrey Uytterspr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3"/>
          <a:stretch/>
        </p:blipFill>
        <p:spPr>
          <a:xfrm>
            <a:off x="7008840" y="3225960"/>
            <a:ext cx="960480" cy="1268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4065480" y="454176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5310360" y="4570560"/>
            <a:ext cx="95220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6"/>
          <a:stretch/>
        </p:blipFill>
        <p:spPr>
          <a:xfrm>
            <a:off x="6524640" y="459756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7"/>
          <a:stretch/>
        </p:blipFill>
        <p:spPr>
          <a:xfrm>
            <a:off x="7835760" y="4583160"/>
            <a:ext cx="95256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96800" y="2814480"/>
            <a:ext cx="83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ématiques de mémo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77676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07960" y="1634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Joël Billie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2872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939960"/>
            <a:ext cx="8809200" cy="58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9b"/>
                </a:solidFill>
                <a:latin typeface="Arial"/>
              </a:rPr>
              <a:t>Sans co-promotion (contacter directement J. Billieu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Facteurs psychologiques impliqués dans l’utilisation problématique 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téléphone portable (Enquête on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Validation d’un questionnaire mesurant la réactivité émotionn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(Lab / Enquê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Facteurs psychologiques impliqués dans les comport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problématiques du spectre des cyber addictions (Lab /  Enquêt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Evaluation d’un programme visant à augmenter le contrôle attentionnel 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réduire l’auto-centration dans l’anxiété (entraînement attentionnel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Adrian Wells) (constitution de différents groupes et sui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9b"/>
                </a:solidFill>
                <a:latin typeface="Arial"/>
              </a:rPr>
              <a:t>Gaëtan Devos (Co-promoteu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Jeu problématique : rôle de l’impulsivité et des croya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dysfonctionnelles (La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9b"/>
                </a:solidFill>
                <a:latin typeface="Arial"/>
              </a:rPr>
              <a:t>Frank Laroi (Co-promoteur, Université de Lièg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Stéréotypes associés à la maladie m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74080" y="1384200"/>
            <a:ext cx="852480" cy="55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7960" y="18108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Nombre de mém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7960" y="3268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Philippe de Ti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" y="1744560"/>
            <a:ext cx="88092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Co-promotion de mémoires addi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Apport de pro-biotiques pour améliorer le statu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  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inflammatoire des sujets alcoolique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                                         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(Sophie Leclercq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Inhibition, apprentissage moteur et anticipation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 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des mouvements oculaires dans l’alcoolis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                                           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(Marcus Missa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07960" y="3268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Pierre Maur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517920"/>
            <a:ext cx="232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</a:rPr>
              <a:t>Psychiatr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54640" y="3600360"/>
            <a:ext cx="329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ff00"/>
                </a:solidFill>
                <a:latin typeface="Arial"/>
              </a:rPr>
              <a:t>Neurosci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245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9999"/>
                </a:solidFill>
                <a:latin typeface="Arial"/>
              </a:rPr>
              <a:t>Emotions – Relations interpersonnel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6684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 u="sng">
                <a:solidFill>
                  <a:srgbClr val="ffff9b"/>
                </a:solidFill>
                <a:uFillTx/>
                <a:latin typeface="Arial"/>
              </a:rPr>
              <a:t>Thème central</a:t>
            </a: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Neurosciences affectives e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ff9b"/>
                </a:solidFill>
                <a:latin typeface="Arial"/>
              </a:rPr>
              <a:t>interpersonnelles des addi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1320" y="3533760"/>
            <a:ext cx="1760400" cy="1652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82640" y="3530520"/>
            <a:ext cx="1824120" cy="1679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284640"/>
            <a:ext cx="32083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7600" y="4048200"/>
            <a:ext cx="321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0000"/>
                </a:solidFill>
                <a:latin typeface="Arial"/>
              </a:rPr>
              <a:t>Alcoolis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ff0000"/>
                </a:solidFill>
                <a:latin typeface="Arial"/>
              </a:rPr>
              <a:t>Binge drin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8760" y="2982960"/>
            <a:ext cx="329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99"/>
                </a:solidFill>
                <a:latin typeface="Arial"/>
              </a:rPr>
              <a:t>Pop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46920" y="2998800"/>
            <a:ext cx="329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99"/>
                </a:solidFill>
                <a:latin typeface="Arial"/>
              </a:rPr>
              <a:t>Méthodolog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57560" y="5146560"/>
            <a:ext cx="28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ff99"/>
                </a:solidFill>
                <a:latin typeface="Arial"/>
              </a:rPr>
              <a:t>Thématiqu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360" y="5946840"/>
            <a:ext cx="872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bbe0e3"/>
                </a:solidFill>
                <a:latin typeface="Arial"/>
              </a:rPr>
              <a:t>Emotions faciales-vocal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bbe0e3"/>
                </a:solidFill>
                <a:latin typeface="Arial"/>
              </a:rPr>
              <a:t>Interactions sociales, Empath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4760" y="4208400"/>
            <a:ext cx="3295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ff00"/>
                </a:solidFill>
                <a:latin typeface="Arial"/>
              </a:rPr>
              <a:t>EEG, PE, IRMf, Neuropsycholog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4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07960" y="21744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df5c3"/>
                </a:solidFill>
                <a:latin typeface="Arial"/>
              </a:rPr>
              <a:t>Pierre Maur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fbe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376280"/>
            <a:ext cx="8809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Déficits émotionnels et cognitifs dans le binge drink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Comportemental (émotions, fonctions exécutiv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Electrophysiologie (potentiels évoqué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Déficits émotionnels-interpersonnels dans l’alcoolo-dépen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Comportemental (psychologie sociale, interac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Neurosciences (potentiels évoqués, fMR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Déficits émotionnels-interpersonnels dans d’autres pop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Maladie de Huntington (Magali Lahay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Schizophrén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b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Autres thémati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Construction d’une batterie de questionnaires émotionn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Construction d’une batterie de stimuli émotionne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Interactions olfaction-cognition chez sujets sa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     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- Impact de l’arousal sur l’estimation de magnitudes (Valérie Dormal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86680" y="1630440"/>
            <a:ext cx="852480" cy="50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7960" y="495360"/>
            <a:ext cx="161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ffff9b"/>
                </a:solidFill>
                <a:latin typeface="Arial"/>
              </a:rPr>
              <a:t>Nombre de mém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08:25:42Z</dcterms:created>
  <dc:creator>fred joassin</dc:creator>
  <dc:description/>
  <dc:language>en-US</dc:language>
  <cp:lastModifiedBy>Matrice UCL</cp:lastModifiedBy>
  <dcterms:modified xsi:type="dcterms:W3CDTF">2012-11-05T11:00:51Z</dcterms:modified>
  <cp:revision>186</cp:revision>
  <dc:subject/>
  <dc:title>Présentation PowerPoint</dc:title>
</cp:coreProperties>
</file>